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D2F-4F8F-480C-BB99-EEF23866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64E-249B-4F8B-A7FF-6D047083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EAF-E13B-4E64-AC63-FE4B9454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559-6A0E-4BB4-9141-13610F7B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CA18-0032-4CF3-A335-17765F5C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6070-1C4F-4328-B2DD-2C9FC801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54EC-B044-4CC2-8B36-594F7049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C136-DC33-4D5A-88B8-4A02510A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660B-36B5-4EC0-B765-886753F9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6087-EE8F-4F8A-9A81-4FA32670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51F1-70D1-41B0-BB0B-F2BB2156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CDC-9FFC-4A54-B76C-A7B7D48D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1C9E-5424-432E-95C7-718D0CD5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BC4B-24CE-4F3B-A054-A562871A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F2CF-73B9-4FC4-8B55-08CC7F99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0C06-0267-4F7A-833B-3B6389F2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7DA8-1E30-44F3-90F4-3A64CE25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9C7-EDF7-4251-8B56-793CC099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7A7-319C-4100-8CB4-914FBEF4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B64-D6FD-4E32-9D6C-757F7C83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5D1-A18D-4A7A-94CD-AADA57CD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39B-F08A-424B-AEAA-3BC85694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156-1200-43F6-8779-B7058B75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6032-EA18-4EC8-829A-7986C806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F711-695C-4ADA-96A0-3E45CD20AD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2161-0E12-4115-BBB1-E23CEAC541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hkolazhizni.ru/archive/0/n-3870/" TargetMode="External"/><Relationship Id="rId2" Type="http://schemas.openxmlformats.org/officeDocument/2006/relationships/hyperlink" Target="http://shkolazhizni.ru/archive/0/n-3870/" TargetMode="External"/><Relationship Id="rId3" Type="http://schemas.openxmlformats.org/officeDocument/2006/relationships/hyperlink" Target="http://shkolazhizni.ru/archive/0/n-3870/" TargetMode="External"/><Relationship Id="rId4" Type="http://schemas.openxmlformats.org/officeDocument/2006/relationships/hyperlink" Target="http://shkolazhizni.ru/archive/0/n-3870/" TargetMode="External"/><Relationship Id="rId5" Type="http://schemas.openxmlformats.org/officeDocument/2006/relationships/hyperlink" Target="http://shkolazhizni.ru/archive/0/n-3870/" TargetMode="External"/><Relationship Id="rId6" Type="http://schemas.openxmlformats.org/officeDocument/2006/relationships/hyperlink" Target="http://shkolazhizni.ru/archive/0/n-3870/" TargetMode="External"/><Relationship Id="rId7" Type="http://schemas.openxmlformats.org/officeDocument/2006/relationships/hyperlink" Target="http://www.liebe-de.okis.ru/mentalitet.html" TargetMode="External"/><Relationship Id="rId8" Type="http://schemas.openxmlformats.org/officeDocument/2006/relationships/hyperlink" Target="http://www.langust.ru/review/xenoger2.shtml" TargetMode="External"/><Relationship Id="rId9" Type="http://schemas.openxmlformats.org/officeDocument/2006/relationships/hyperlink" Target="http://www.langust.ru/review/xenoger2.shtml" TargetMode="External"/><Relationship Id="rId10" Type="http://schemas.openxmlformats.org/officeDocument/2006/relationships/hyperlink" Target="http://www.langust.ru/review/xenoger2.shtml" TargetMode="External"/><Relationship Id="rId11" Type="http://schemas.openxmlformats.org/officeDocument/2006/relationships/hyperlink" Target="http://www.langust.ru/review/xenoger2.shtml" TargetMode="External"/><Relationship Id="rId12" Type="http://schemas.openxmlformats.org/officeDocument/2006/relationships/hyperlink" Target="http://www.langust.ru/review/xenoger2.shtml" TargetMode="External"/><Relationship Id="rId13" Type="http://schemas.openxmlformats.org/officeDocument/2006/relationships/hyperlink" Target="http://www.langust.ru/review/xenoger2.shtml" TargetMode="External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00"/>
                </a:solidFill>
                <a:latin typeface="Arial"/>
              </a:rPr>
              <a:t>Немецкий менталитет сегодн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71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лова Виктория, 10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Что такое менталитет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енталите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фр. </a:t>
            </a: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Mentalit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— образ мышления, мировосприятия, духовной настроенности, присущие индивиду или групп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нталитет определяет умонастроение и жизненную пози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норма представления мира вокруг себя и себя в нём. Черты менталитета, к примеру, — интуитивизм, рационализм, цветовая гамма, семейные образы, лиризм и т. 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енталитет формируется в результате воздействия следующих факторов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тература, прочитанная в детстве и юност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иологические факторы (уровень физического и психического здоровья, детские болезни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нталитет родителе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здействие со стороны отдельных "сильных личностей"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ле- и кинофильмы, просмотренные в детстве и юност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редства массовой информаци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кол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ые формы искусства (кроме литературы и кино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енталитету жителя Германии присущи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удолюб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ерватиз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ст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курат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унктуа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оном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Сверхчистоплотност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4640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Различия двух менталитето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сским присущи широта души, духовная свобода, бесхозяйственность, мечтательность, безудержность, противоречив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я представителей немецкой нации в отличие от русской характерны серьёзность, пунктуальность. Это нация, которая всё время сомнев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уществует ли что-то общее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телям России и Германии присуща мечтательность. Когда окружающая действительность становится невыносимой, немцы спасаются бегством в мир фантаз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716280"/>
            <a:ext cx="4716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Итоги исследова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так, немецкий менталитет – это особенный образ мышления, складывающийся под давлением условий жизни, воспитания, СМИ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тественно немецкий и русский менталитеты в основном имеют больше противоположных черт. Однако между ними имеется и нечто обще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Используемые ресурс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shkolazhizni.ru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archive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/0/n-3870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http://www.liebe-de.okis.ru/mentalitet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http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://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www.langust.ru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/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review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/xenoger2.s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0:49:41Z</dcterms:created>
  <dc:creator>Au226</dc:creator>
  <dc:description/>
  <dc:language>en-US</dc:language>
  <cp:lastModifiedBy>Au226</cp:lastModifiedBy>
  <dcterms:modified xsi:type="dcterms:W3CDTF">2009-10-23T10:36:03Z</dcterms:modified>
  <cp:revision>3</cp:revision>
  <dc:subject/>
  <dc:title>Немецкий менталитет сегодня</dc:title>
</cp:coreProperties>
</file>